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2ED-F576-40BF-8618-E0B56879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0EE-CC6B-4C08-8BE5-3E4CB4F5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1B4-7768-401E-A091-5C01AA6D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A23-7E41-470B-8A55-24CE1D75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E380-8008-4A41-9ED4-DEEA775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9FB-7B33-4575-AA00-5BB72D7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AE3-0260-4B28-8E00-DE15A8BF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EA0-1AD7-4CB9-A896-D14B2C6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C42-891D-42F5-876C-107ED90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6BA-31F1-4935-B6FA-270C6C0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42B-14EA-41D6-B83E-4BDDC44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4B5-6C00-491A-9EB6-F3CCC9D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9B9-CBBC-4D93-A86C-5D3572F26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.  El ori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cultura mestiza (= indíge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religión cristiana (católica rom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música religio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I.  Los instrumentos del Fanda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la guitarr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strumentos primitiv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el violí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la vihu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II.  Los instrumentos del Mariac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la guitar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el violí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la vihue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. el arpa (fe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V.  La 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. el sombrero gran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B. hay colores brillantes en la tela 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fabric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neg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. vestido tradicional = folklór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. hombres – pantalones apretados / chaquetas co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. mujeres – faldas </a:t>
            </a:r>
            <a:r>
              <a:rPr b="0" i="1" lang="es-ES_tradnl" sz="1800" spc="-1" strike="noStrike">
                <a:solidFill>
                  <a:srgbClr val="000000"/>
                </a:solidFill>
                <a:latin typeface="Calibri"/>
              </a:rPr>
              <a:t>(skirt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largas / chaquetas cor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515440" cy="120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Vihuela Mexicana.jpg"/>
          <p:cNvPicPr/>
          <p:nvPr/>
        </p:nvPicPr>
        <p:blipFill>
          <a:blip r:embed="rId2"/>
          <a:stretch/>
        </p:blipFill>
        <p:spPr>
          <a:xfrm>
            <a:off x="6553080" y="1371600"/>
            <a:ext cx="1809720" cy="4133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5562720" y="5867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huela mexicana – cinco cuerdas / parte de atrás redo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upload.wikimedia.org/wikipedia/commons/4/44/Gitarron.jpg"/>
          <p:cNvPicPr/>
          <p:nvPr/>
        </p:nvPicPr>
        <p:blipFill>
          <a:blip r:embed="rId3"/>
          <a:stretch/>
        </p:blipFill>
        <p:spPr>
          <a:xfrm>
            <a:off x="914400" y="1371600"/>
            <a:ext cx="190512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762120" y="57913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itarrón mexicana – grande / ancha / de mango co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276720" y="1523880"/>
            <a:ext cx="27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tar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ol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ompet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Flaut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rp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cordeó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378000" y="122400"/>
            <a:ext cx="8315280" cy="143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mariachi4u.com/hwm/images/Laurapink.jpg"/>
          <p:cNvPicPr/>
          <p:nvPr/>
        </p:nvPicPr>
        <p:blipFill>
          <a:blip r:embed="rId2"/>
          <a:stretch/>
        </p:blipFill>
        <p:spPr>
          <a:xfrm>
            <a:off x="5791320" y="1981080"/>
            <a:ext cx="2438280" cy="367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farm4.static.flickr.com/3058/2859335688_852ed82ac6.jpg"/>
          <p:cNvPicPr/>
          <p:nvPr/>
        </p:nvPicPr>
        <p:blipFill>
          <a:blip r:embed="rId3"/>
          <a:stretch/>
        </p:blipFill>
        <p:spPr>
          <a:xfrm>
            <a:off x="533520" y="19810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20:39:05Z</dcterms:created>
  <dc:creator>Joann</dc:creator>
  <dc:description/>
  <dc:language>en-US</dc:language>
  <cp:lastModifiedBy>Joann</cp:lastModifiedBy>
  <dcterms:modified xsi:type="dcterms:W3CDTF">2012-02-23T20:41:17Z</dcterms:modified>
  <cp:revision>1</cp:revision>
  <dc:subject/>
  <dc:title>Slide 1</dc:title>
</cp:coreProperties>
</file>